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88B-8314-4FED-BD75-0F49D5F4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223-37F6-4E1C-80AB-FF355617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A4D-7F3D-4BAF-B5C3-4E9A0C69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B00-DB34-4081-A850-775F996B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E71-5FC0-491F-8279-2856F935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C6B-3018-4612-882E-ABB5FC06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1DD-79F7-466A-A06F-826F8820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F83-7E09-4482-9921-76998C78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E00-D2D7-4EE1-B053-DD2C375E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840-5876-486D-A165-C314887F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94F-4869-4011-BFFB-469C34A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2B2-017D-403E-A20D-00C45CC6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32FF-4655-4935-B435-921A96880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skateboard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4800600"/>
            <a:ext cx="25909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March 0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57400">
            <a:off x="990360" y="1600200"/>
            <a:ext cx="6400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kate Boar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105520"/>
            <a:ext cx="693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ate Boar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9, 2010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.mit.edu/invent/iow/skateboa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Skateboard"/>
          <p:cNvPicPr/>
          <p:nvPr/>
        </p:nvPicPr>
        <p:blipFill>
          <a:blip r:embed="rId2"/>
          <a:srcRect l="6898" t="2792" r="8619" b="2860"/>
          <a:stretch/>
        </p:blipFill>
        <p:spPr>
          <a:xfrm rot="20682000">
            <a:off x="304920" y="609120"/>
            <a:ext cx="48006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Daniel Haney 50/50-ing on skateboard"/>
          <p:cNvPicPr/>
          <p:nvPr/>
        </p:nvPicPr>
        <p:blipFill>
          <a:blip r:embed="rId3"/>
          <a:srcRect l="17177" t="10048" r="16572" b="19656"/>
          <a:stretch/>
        </p:blipFill>
        <p:spPr>
          <a:xfrm>
            <a:off x="6400800" y="0"/>
            <a:ext cx="2743200" cy="37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55960" y="361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Alan Ollie Gelf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n also invented the trick called the ollie, the ollie is a trick when it’s a leap in the air where the board stays In the flush of the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base of all tri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the kick flip, Heel flip, 50-50, tail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avorite is the 360 Fl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I hate the most would be the over crooked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n also became a pro skater in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ed to enter the x games after he became pro but to many pros were at the x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te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acts about the skate board .The Skate board was convinced by surfing fans. who couldn’t catch the right waves at the right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4:51Z</dcterms:created>
  <dc:creator>install</dc:creator>
  <dc:description/>
  <dc:language>en-US</dc:language>
  <cp:lastModifiedBy>install</cp:lastModifiedBy>
  <dcterms:modified xsi:type="dcterms:W3CDTF">2010-03-22T16:05:17Z</dcterms:modified>
  <cp:revision>8</cp:revision>
  <dc:subject/>
  <dc:title>Slide 1</dc:title>
</cp:coreProperties>
</file>